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E7CD-5513-4812-A4B7-303F72B30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/c/ /a/ /t/ (3)   2. /b/ /ur/ /n/ (3)  3. /g/ /r/ /a/ /b/ (4)   4. /s/ /p/ /ar/ /k/ (4)  5. /b/ /r/ /ow/ /n/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C2F0-17DE-4A31-AFF5-46BB5BDF2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lder students this segmentation can be practiced with syllables, prefixes and suffixes.  Teacher : listen  com  mun I ca tion ( pause between syllables) What is the word? Students communication.  This helps students practice hearing and holding on to the parts of multi syllabic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F3A0-68CA-4015-A511-4C4114A02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356-65D5-462F-88EA-E0CD9A6C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8E8-2453-4A4E-9395-732496FE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60F-151B-4932-9C4F-30BD025D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8CD-1395-476D-BB97-52A50ECE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517-3CB3-42CC-A1F4-F7B73E66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EC9-8912-4238-BCA8-204D208F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148E-EA26-457A-AB8A-EB55F79A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8C0-A303-4035-B9B1-369A7173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D7DF-9631-4CD9-A34C-610EBE2A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6A0-8759-403C-B75E-E7EAA980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3A8-CECF-4A2B-BBEA-1EDD9AFC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95C-61D8-4FF1-AFA5-6CFBAE34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F2C7-5910-40F0-9D0D-743F01F84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MM 5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Content Placeholder 3" descr="j0316739.jpg"/>
          <p:cNvPicPr/>
          <p:nvPr/>
        </p:nvPicPr>
        <p:blipFill>
          <a:blip r:embed="rId1"/>
          <a:srcRect l="19961" t="0" r="19961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the phonemes you hear in each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                  2.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grab                 4. s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br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it is about the sounds not the spell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onics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process of mentally interpreting written symbols. Facility in reading is an essential factor in educational progress, and instruction in this basic skill is a primary purpose of elementary educ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than just 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/symbol identification, includ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ing the letters by sight and by sound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 letters with the appropriate sounds and vice vers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ics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the alphabetic principle contributes greatly to children’s ability to read words both in isolation and in connected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 most curriculum only provide phonics instruction through the second g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atic Reading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me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ics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enc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arc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intensive intervention programs for students who have not broken the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to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ini lesson that includes phoneme practice and phonics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2"/>
          <p:cNvSpPr txBox="1"/>
          <p:nvPr/>
        </p:nvSpPr>
        <p:spPr>
          <a:xfrm>
            <a:off x="2819520" y="685800"/>
            <a:ext cx="3295440" cy="6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cta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380880" y="2209680"/>
            <a:ext cx="838224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leave with an understanding of how to plan – teach rea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have viewed and practiced teaching lessons in rea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uestions about gr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rse Requirement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attendance, careful reading of required texts and resources, active participation, timely completion of assignments, and self-evaluation.  Attendance is required at all sess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stone Model Les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ill write a lesson plan focusing on reading and writing for their theme unit.  The lesson is expected to incorporate the strategies learned in ESMM 5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and prompt attend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class participation and completed class assignments 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Lesson and Lesson Pres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 Assess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ston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we get to D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 L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riven Scientifically pr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re phonemic awareness skill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nemic awareness skills are the skills needed to recognize that a spoken word consists of a sequence of individual Developing awareness of sounds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 Pract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sound No wri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me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eac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What is the first sound in v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ud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first sound in van is /v/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/b/ tells the instructor to only say the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me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recognize the same sounds in different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eac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at sound is the same in fix, fall and f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first sound /f/ is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me categ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recognize the word in a set of three or four words that has the “odd”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each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word does not belong? Bug, bus,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re some other examples of phonemic awareness skills: 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, including the ability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ge if two words start the same or end the sa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 phoneme from a wor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phonemes in a word,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nd sounds toge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eness of sound patterns in the l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are able to break a word into separate sounds, saying each sound, then write each sound, and read the wor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0T23:40:20Z</dcterms:created>
  <dc:creator>Administrator</dc:creator>
  <dc:description/>
  <dc:language>en-US</dc:language>
  <cp:lastModifiedBy>Kathleen Clay</cp:lastModifiedBy>
  <dcterms:modified xsi:type="dcterms:W3CDTF">2011-06-28T14:21:52Z</dcterms:modified>
  <cp:revision>34</cp:revision>
  <dc:subject/>
  <dc:title>   What are phonemic awareness skills?  Definition  Phonemic awareness skills are the skills needed to recognize that a spoken word consists of a sequence of individual Developing awareness of sounds   </dc:title>
</cp:coreProperties>
</file>